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17A7C-F494-4D27-BA8C-9A07ECC3E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D9A4-D6CA-4CCE-8945-4FF8207B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1BC60-E5FD-49F0-8A67-28F68535E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6BE0F-21C0-4EAD-BCF0-6D0455754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5C9C-5F15-4740-8316-D9FB70BF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52D5-F901-4CDD-A32D-7B039A32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13CF-28FD-445A-A749-81C99604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B79DC-3C55-4540-A730-98947F53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E0D21-DDF8-420E-905C-4DE557C9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8773-0CDD-4A06-96C6-2B1BDF88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C92C-FF7E-4C89-A74C-B12D94D22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3566-5D68-432A-8336-A177A047F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8FF-E4D4-42E8-B2C0-6EEB17881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discrete" valueType="clr">
                                      <p:cBhvr additive="repl">
                                        <p:cTn id="93"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4" dur="80"/>
                                        <p:tgtEl>
                                          <p:spTgt spid="55">
                                            <p:txEl>
                                              <p:pRg st="3" end="3"/>
                                            </p:txEl>
                                          </p:spTgt>
                                        </p:tgtEl>
                                        <p:attrNameLst>
                                          <p:attrName>fillcolor</p:attrName>
                                        </p:attrNameLst>
                                      </p:cBhvr>
                                      <p:tavLst>
                                        <p:tav tm="0">
                                          <p:val>
                                            <p:strVal val="rgb(-103,51,51)"/>
                                          </p:val>
                                        </p:tav>
                                        <p:tav tm="50000">
                                          <p:val>
                                            <p:strVal val="rgb(-103,-103,0)"/>
                                          </p:val>
                                        </p:tav>
                                      </p:tavLst>
                                    </p:anim>
                                    <p:set>
                                      <p:cBhvr>
                                        <p:cTn id="95" dur="80"/>
                                        <p:tgtEl>
                                          <p:spTgt spid="55">
                                            <p:txEl>
                                              <p:pRg st="3" end="3"/>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