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862E-EFA8-40FA-9BCE-0349A03BB6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49A6A-7E93-4E58-B3DA-4689E4107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BCEC7-23F3-4C8B-817B-40F46C0F9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DEE6A-FF7C-402C-AF67-16C711ABD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7E9E-56F5-402C-BA63-272002115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D0FF5-B859-43A7-A0DC-4CB7CEA3B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28404-8746-4CE0-A060-270D42200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A1C11-B30D-476B-8222-AD6E8539D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6148A-B734-4704-975C-58F89FBCC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05EC0-F3B4-4329-AAA8-22D2C259A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28A19-46ED-4B11-B6C5-B81CB1B94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0FF3A-BC51-4CCD-9EAF-0776040BF7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15D0-08FF-4315-94B0-C7346FF64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1000" fill="hold"/>
                                        <p:tgtEl>
                                          <p:spTgt spid="55">
                                            <p:txEl>
                                              <p:pRg st="2" end="2"/>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5" dur="1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93" dur="1000" fill="hold"/>
                                        <p:tgtEl>
                                          <p:spTgt spid="55">
                                            <p:txEl>
                                              <p:pRg st="3" end="3"/>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