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B063B-94EF-47C9-B437-2431F9705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192FB-09B2-4BDB-AAF0-AF4A7EB9C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1A869-F0FB-4DEA-AFB1-7CF609493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6B3B1-DFBD-4F24-A5FC-BDD5B8A18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6F108-D206-4777-82B4-FB0C4332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2078A-DA45-454C-809F-1AEBDA587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D803C-EA5E-46AB-87F4-4D1174879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12ECE-9096-4875-8345-1ABE2D2B6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D15FF-6E99-4269-ACDC-238F76F0F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C1374-84E9-4050-BEA1-02E6BE11F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4EA6-6383-4858-A02C-B882DB2D6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547D5-6114-43EB-9CE3-FF0D7AB3E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6D33-12ED-4834-AC84-52F732EB0B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ou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Scale>
                                      <p:cBhvr>
                                        <p:cTn id="90"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55">
                                            <p:txEl>
                                              <p:pRg st="3" end="3"/>
                                            </p:txEl>
                                          </p:spTgt>
                                        </p:tgtEl>
                                      </p:cBhvr>
                                    </p:animMotion>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