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36BD2-7635-4F14-9CC5-3D7044A2B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7362B-1374-4BFA-B8B0-C377DF3AA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709AB-CEDE-41D6-A1CF-AA785A06A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A780B-16CC-4735-BC1A-DCFFBB28C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C373-D5B0-4DD9-9A0B-E6155336E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4541-DF70-4D54-9FC7-4CA1F3457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D0901-6955-48AA-8E2B-D420B7D4A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6B2AF-BFBD-4049-A6FD-5B2FD9474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FAB15-B674-4039-B540-52A4ECEB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D3458-CAE6-4AF3-8F9A-168219E4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097F-5600-46D6-B23E-6A3CC007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09A1-A405-4B98-9C32-2416D7171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CD99-7251-4EDB-B7A7-032D54C75E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Scale>
                                      <p:cBhvr>
                                        <p:cTn id="93"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55">
                                            <p:txEl>
                                              <p:pRg st="3" end="3"/>
                                            </p:txEl>
                                          </p:spTgt>
                                        </p:tgtEl>
                                      </p:cBhvr>
                                    </p:animMotion>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