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46293-D53A-4DD4-A534-724142F53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22E7B-3296-407E-B60C-7F0B2D201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29023-344D-40B1-BB7E-FE7A267FE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25C4E-9BC2-4F6B-BDC9-BB39A845C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21688-5F49-4B1F-AD14-589357340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D22DD-D1B1-4A29-9BE6-4A269C298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BC417-408B-4554-9C24-3A1E23006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69284-D55B-432A-915F-2AE9A196C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C09E5-0EC4-465A-8F0B-763A8014A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153D-45CD-466F-9090-971E9D65F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C521F-151B-4788-8D1E-11DBE6397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D254B-6691-473D-91DC-3FC7BC85E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4E4A-A490-4ACD-A69C-DC7021EAE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1000"/>
                                        <p:tgtEl>
                                          <p:spTgt spid="55">
                                            <p:txEl>
                                              <p:pRg st="3" end="3"/>
                                            </p:txEl>
                                          </p:spTgt>
                                        </p:tgtEl>
                                      </p:cBhvr>
                                    </p:animEffect>
                                    <p:anim calcmode="lin" valueType="num">
                                      <p:cBhvr additive="repl">
                                        <p:cTn id="91"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