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8751B-9090-4AEF-A00E-BF5DA39B7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C963-763B-49EB-BF68-90239796D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88CE4-3841-4016-AD3D-68AD39B80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0D323-F7AA-4430-BB45-9A1CC0CCA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3ACC-CDF0-47DB-BC39-9D66DD86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E11D0-DCA2-4958-A68E-0AAD6F4C7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12170-C4F7-4473-8229-7E92B675E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94ACA-68CC-45B6-916D-BAC39C30B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407CE-1A50-4D2E-9418-9E2800713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7F3CF-C8B4-4428-BB18-F697C8257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8EBAB-5CEE-412F-8446-D72B110E5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C8E1-97F5-4C12-B068-1978AA08D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9887-230D-4EBA-A02D-38DD8D613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1000"/>
                                        <p:tgtEl>
                                          <p:spTgt spid="55">
                                            <p:txEl>
                                              <p:pRg st="3" end="3"/>
                                            </p:txEl>
                                          </p:spTgt>
                                        </p:tgtEl>
                                      </p:cBhvr>
                                    </p:animEffect>
                                    <p:anim calcmode="lin" valueType="num">
                                      <p:cBhvr additive="repl">
                                        <p:cTn id="94"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