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D93CE-FF03-4C8D-BC17-6C468738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F9DF-78A2-4E3D-B521-8A01085F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55912-3D5D-4DEA-92F0-6E0FE367A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0E0C9-9F3A-459A-B512-79F9F8A97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7C62-EA82-46D3-A2B2-DD685F4B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0ECE-F4B0-4BA5-9C38-FD92E6F17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667F-1BDA-455A-9825-1EEA90A5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BC12-1509-4F74-A09A-D67186BCE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896F8-4001-4CA7-A0D9-F3F21262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75A0-5C61-4035-9A29-DE84D1EE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0522-96C0-4A99-A1B9-3CE837D9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0463-00F8-41CE-84E0-BDFA56037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3EBB-7251-4CC6-91DF-037198081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4"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x</p:attrName>
                                        </p:attrNameLst>
                                      </p:cBhvr>
                                      <p:tavLst>
                                        <p:tav tm="0">
                                          <p:val>
                                            <p:strVal val="#ppt_x+#ppt_w/2"/>
                                          </p:val>
                                        </p:tav>
                                        <p:tav tm="100000">
                                          <p:val>
                                            <p:strVal val="#ppt_x"/>
                                          </p:val>
                                        </p:tav>
                                      </p:tavLst>
                                    </p:anim>
                                    <p:anim calcmode="lin" valueType="num">
                                      <p:cBhvr additive="repl">
                                        <p:cTn id="90"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