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6DD52-77F9-47A0-BF21-0BAE9C67E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DA7D9-0EEB-4A26-B820-986C8E831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97A9D-CAFC-47A7-9AAD-6C6430739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57395-29ED-42A8-AFA1-9E70C89FE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1B17F-956C-48BE-9A6E-8619D15AA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32C3C-4D6D-4FAD-8491-0346EF9B9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B048B-0A49-4AF9-9BC1-A3E4BBA7D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87BBC-49F9-44F9-981A-B499FA007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C4EFA-F6C1-4980-A99A-DC488750E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74B92-6F7D-4320-96AB-DA5E8CE75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089BD-8460-4D15-90ED-33B794E58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00B23-498E-4CEA-BF9E-D4F821BDFB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27D3-238F-4167-A836-2897C64D67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ircle(out)"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89" dur="5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0" dur="500" fill="hold"/>
                                        <p:tgtEl>
                                          <p:spTgt spid="55">
                                            <p:txEl>
                                              <p:pRg st="3" end="3"/>
                                            </p:txEl>
                                          </p:spTgt>
                                        </p:tgtEl>
                                        <p:attrNameLst>
                                          <p:attrName>r</p:attrName>
                                        </p:attrNameLst>
                                      </p:cBhvr>
                                      <p:tavLst>
                                        <p:tav tm="0">
                                          <p:val>
                                            <p:strVal val="360"/>
                                          </p:val>
                                        </p:tav>
                                        <p:tav tm="100000">
                                          <p:val>
                                            <p:strVal val="0"/>
                                          </p:val>
                                        </p:tav>
                                      </p:tavLst>
                                    </p:anim>
                                    <p:animEffect filter="fade" transition="in">
                                      <p:cBhvr additive="repl">
                                        <p:cTn id="91" dur="5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