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8AFC7-ECD9-449A-838A-834148F42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963B7-D50F-4D53-9224-BC4FFE02D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5A79A-57EA-4782-94C6-539A5F07D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28265-A060-437C-A75C-A2E50A331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835B0-605D-4278-8929-415E27B3E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DD8F8-3A5B-4957-B3A1-837237B9C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13013-C3E9-4DD8-B123-7A8ED3EC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D582F-319F-4940-8814-B94FB1EF2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C8604-6B6A-42B3-AE9C-C6A2C3CAD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3E659-80E5-4D84-804E-57072BE47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C237-1B39-4E56-98A2-2927CDB3C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6B8B9-1AC0-460A-91C1-8591ACE3A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51F8B-86EA-4033-B930-60A3997878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r</p:attrName>
                                        </p:attrNameLst>
                                      </p:cBhvr>
                                      <p:tavLst>
                                        <p:tav tm="0">
                                          <p:val>
                                            <p:strVal val="90"/>
                                          </p:val>
                                        </p:tav>
                                        <p:tav tm="100000">
                                          <p:val>
                                            <p:strVal val="0"/>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slide(fromLeft)" transition="in">
                                      <p:cBhvr additive="repl">
                                        <p:cTn id="86" dur="5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55">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