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85D55-4C81-4775-B032-FEABBC5CF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50618-8546-44D9-9C03-798F5D4B6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969DB-E0F2-49AA-945E-0F1972C77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F19FF-B8D5-42F5-8B5A-71F4CE602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E4342-BF6B-4535-9254-BF94980B3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B445A-305D-453D-89AC-D77AE38D5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552BE-AED8-4F3C-833F-1DDE247F9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CAEF9-59DF-467D-B849-F282E9C3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8EC78-E5B0-4C78-9A01-18BAD7DA2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B2FF-5F9A-41A4-9071-FAB5D1F7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6A14-EC87-4C69-9BC7-7EE114C1B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0A4C-59E2-42E7-ADF2-B0888C37D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0C9C-60CD-40E2-8D75-7EE2316B9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3" dur="5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fade" transition="in">
                                      <p:cBhvr additive="repl">
                                        <p:cTn id="88" dur="1000"/>
                                        <p:tgtEl>
                                          <p:spTgt spid="55">
                                            <p:txEl>
                                              <p:pRg st="3" end="3"/>
                                            </p:txEl>
                                          </p:spTgt>
                                        </p:tgtEl>
                                      </p:cBhvr>
                                    </p:animEffect>
                                    <p:anim calcmode="lin" valueType="num">
                                      <p:cBhvr additive="repl">
                                        <p:cTn id="89"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