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5CED7-43F8-4949-A1B1-4A199251D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246BE-5354-423F-BCC3-DBEC2AA1B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59ACC-83C6-467E-BF20-1DA574E36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DC3B5D-F386-4A97-92F0-B4F807CE5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3C1F9-690B-4A95-B0FF-3C78717F5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2E0E0-39EB-45F7-BEAC-3FA7D9660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B4EFB-BBC5-4C9F-973F-C895848F9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44138-16E9-4088-8F55-452B81BA6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12BD8-2C3C-46C3-8B1A-657C3D417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1E6B-EC18-4196-8ED3-A969EBFFF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DE933-7097-4E6A-9D28-AA0F96F40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4224E-BF1D-4BCE-B438-BBA001EB3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5BD5-EE68-4941-AD6B-472F98BEDF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0"/>
                                          </p:val>
                                        </p:tav>
                                        <p:tav tm="100000">
                                          <p:val>
                                            <p:strVal val="#ppt_h"/>
                                          </p:val>
                                        </p:tav>
                                      </p:tavLst>
                                    </p:anim>
                                    <p:anim calcmode="lin" valueType="num">
                                      <p:cBhvr additive="repl">
                                        <p:cTn id="80" dur="1000" fill="hold"/>
                                        <p:tgtEl>
                                          <p:spTgt spid="55">
                                            <p:txEl>
                                              <p:pRg st="1" end="1"/>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81" dur="1000" fill="hold"/>
                                        <p:tgtEl>
                                          <p:spTgt spid="55">
                                            <p:txEl>
                                              <p:pRg st="1" end="1"/>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3" dur="5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