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D57FF-3FFC-407F-B9F5-78582BA63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8FF6D-70E1-473F-927E-2ED99CD95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BECC4-8F8A-4585-8C2A-41B3C8056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0B6AB-DB83-4700-9EE3-CC4AF5B5B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8A211-1205-44C3-B642-9F2C78311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95C2D-EA49-42E6-A83B-D4358D9B4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4DFD4-4C23-4B19-B71D-8D5987DC7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224AD-B71E-4B6E-814E-D5B0BFD04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F92A4-A1D9-4233-937D-CF396935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9F4AF-61C7-4821-9F24-C7DD0691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BDDE9-B407-4FB6-8FFB-0950EB7D4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BC5C8-C3C5-4E75-A573-3A2838A6B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F1B1-CF79-4BF3-9DA8-1D1BB1845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plus(out)"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fade" transition="in">
                                      <p:cBhvr additive="repl">
                                        <p:cTn id="88" dur="2000"/>
                                        <p:tgtEl>
                                          <p:spTgt spid="55">
                                            <p:txEl>
                                              <p:pRg st="3" end="3"/>
                                            </p:txEl>
                                          </p:spTgt>
                                        </p:tgtEl>
                                      </p:cBhvr>
                                    </p:animEffect>
                                    <p:anim calcmode="lin" valueType="num">
                                      <p:cBhvr additive="repl">
                                        <p:cTn id="89"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0"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