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293C0-8903-48AE-9591-D5BB74527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2238E-CAE5-48E2-BA23-43E447D1C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012C4-6FFB-4043-8565-13476AC609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7A7C4A-D1B4-4CFE-9F57-6CF29F8BE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E7AED-18DC-4F01-A980-426F6122F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339AA-0E02-459F-A132-F4BEFA69F3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714AC-4BA2-40BB-AD17-ABA86BDC6F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815352-701F-41D2-821A-489307F30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FD86F-55E7-4475-94D4-5D982B238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CC209-AD17-4B58-A866-EAEC8025B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84C7-2FCB-47F5-833E-038A80E1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5B7D0-282D-4329-8691-DBB7F6F877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51CB-A4D7-42CA-A010-75E269C5F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Scale>
                                      <p:cBhvr>
                                        <p:cTn id="85" dur="1000" fill="hold">
                                          <p:stCondLst>
                                            <p:cond delay="0"/>
                                          </p:stCondLst>
                                        </p:cTn>
                                        <p:tgtEl>
                                          <p:spTgt spid="5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 dur="1000" fill="hold">
                                          <p:stCondLst>
                                            <p:cond delay="0"/>
                                          </p:stCondLst>
                                        </p:cTn>
                                        <p:tgtEl>
                                          <p:spTgt spid="55">
                                            <p:txEl>
                                              <p:pRg st="2" end="2"/>
                                            </p:txEl>
                                          </p:spTgt>
                                        </p:tgtEl>
                                      </p:cBhvr>
                                    </p:animMotion>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 calcmode="lin" valueType="num">
                                      <p:cBhvr additive="repl">
                                        <p:cTn id="94" dur="500" fill="hold"/>
                                        <p:tgtEl>
                                          <p:spTgt spid="55">
                                            <p:txEl>
                                              <p:pRg st="3" end="3"/>
                                            </p:txEl>
                                          </p:spTgt>
                                        </p:tgtEl>
                                        <p:attrNameLst>
                                          <p:attrName>r</p:attrName>
                                        </p:attrNameLst>
                                      </p:cBhvr>
                                      <p:tavLst>
                                        <p:tav tm="0">
                                          <p:val>
                                            <p:strVal val="360"/>
                                          </p:val>
                                        </p:tav>
                                        <p:tav tm="100000">
                                          <p:val>
                                            <p:strVal val="0"/>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