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DEE0F-66C0-47F5-90C2-50AAB6B1F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AE03B-26AB-4DC1-90CA-7E4B05258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6D18A-5E26-4DCF-B60A-2C96C1975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8190E-2BB9-41A1-8361-07845EECE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35A1D-CEEF-40C0-9CF0-CDC1E04F9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57FB9-7ED9-4170-8634-0662AE937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0BDEB-73DE-490A-83EE-5BD880DC5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E2C2C-C993-4B1F-932A-213A72776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8C93D-A157-4E02-991C-87B71D323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6C952-980E-4CB7-98A2-A0EB78C7A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7A83B-370C-406E-8760-D049E9D67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55773-41B4-4570-847C-8FFB37556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DE35A-B2C8-43B6-868E-DC7F0384CE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ppt_w*0.05"/>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wheel(1)" transition="in">
                                      <p:cBhvr additive="repl">
                                        <p:cTn id="87" dur="2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2000"/>
                                        <p:tgtEl>
                                          <p:spTgt spid="55">
                                            <p:txEl>
                                              <p:pRg st="3" end="3"/>
                                            </p:txEl>
                                          </p:spTgt>
                                        </p:tgtEl>
                                      </p:cBhvr>
                                    </p:animEffect>
                                    <p:anim calcmode="lin" valueType="num">
                                      <p:cBhvr additive="repl">
                                        <p:cTn id="93"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4"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