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1E34E-525A-4917-A594-6B9417FD3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00577-05C8-4370-8BD2-B2C443931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39F7A-9C5C-43B5-B537-D5526A11D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CEF54-01C7-428E-BC3A-0B371531B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83311-381E-44ED-87D5-0D86A8A3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D52C-C6F3-4A71-9335-EEC1A2B4C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E8D7-AD2B-4979-B4A8-32917637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B98B4-A7A8-48B4-AA83-802CA81A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86E6-6F33-4549-A0B0-FCBA6E0F0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96C9-D94C-4045-961C-ACAF7DCE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0371-4C3E-45C0-8E99-215B3781B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358A-91F0-484E-A2A6-3D83160FC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A7E1-BFBB-4CD6-A24B-DF042598E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 calcmode="lin" valueType="num">
                                      <p:cBhvr additive="repl">
                                        <p:cTn id="90"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2" end="2"/>
                                            </p:txEl>
                                          </p:spTgt>
                                        </p:tgtEl>
                                        <p:attrNameLst>
                                          <p:attrName>ppt_x</p:attrName>
                                        </p:attrNameLst>
                                      </p:cBhvr>
                                      <p:tavLst>
                                        <p:tav tm="0">
                                          <p:val>
                                            <p:strVal val="0.5"/>
                                          </p:val>
                                        </p:tav>
                                        <p:tav tm="100000">
                                          <p:val>
                                            <p:strVal val="#ppt_x"/>
                                          </p:val>
                                        </p:tav>
                                      </p:tavLst>
                                    </p:anim>
                                    <p:anim calcmode="lin" valueType="num">
                                      <p:cBhvr additive="repl">
                                        <p:cTn id="93" dur="500" fill="hold"/>
                                        <p:tgtEl>
                                          <p:spTgt spid="55">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5">
                                            <p:txEl>
                                              <p:pRg st="3" end="3"/>
                                            </p:txEl>
                                          </p:spTgt>
                                        </p:tgtEl>
                                        <p:attrNameLst>
                                          <p:attrName>style.visibility</p:attrName>
                                        </p:attrNameLst>
                                      </p:cBhvr>
                                      <p:to>
                                        <p:strVal val="visible"/>
                                      </p:to>
                                    </p:set>
                                    <p:anim calcmode="lin" valueType="num">
                                      <p:cBhvr additive="repl">
                                        <p:cTn id="9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5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