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B29D0-A476-4EE2-8E24-B911C8C5D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3240C-85E4-4E2F-8BC0-5BFA9FCF1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83C1C-343F-4DDF-952A-81E858785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13ED7-4702-4470-9580-C6F3960DE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3B29-9276-400E-865A-67C6F323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1389-5FF0-43FD-B5AE-0A5F92D3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51D7-0C12-4E65-8456-C20E5F77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A60DC-D9AE-476E-B8FD-4478940F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E155-A7C0-40FD-9F85-F9A5DB5D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6D96-5557-4E82-A156-FBCEF107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9EE3-63ED-4D16-8A92-FE1EED693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0A9B-B2E1-4CA6-BE62-7613F28A0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E364-04C4-48FC-8896-F20EFA03B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90"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91" dur="500"/>
                                        <p:tgtEl>
                                          <p:spTgt spid="5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7"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8" dur="5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