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74759-11F5-43EC-A753-4218D0883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2F217-C16B-45E8-9EC7-61F7FEB8A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15031-0FBA-41D5-9F79-BE6E1C119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6AD89-EDEB-400D-8031-860576A76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C758C-CD0A-48E7-9C6E-86EC92A54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A1951-48DC-49B4-AE5F-BB907CB4A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A5D6E-0984-4C9F-841F-715F270DA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FDFF2-6652-4132-A133-A05E20290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9AE41-689F-43A8-8D75-FBF5F7212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6A453-1D85-40F8-804E-0EDB0F0FE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06711-A2D2-4734-AD48-BF7CA82B0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88512-4B5A-4B8A-83FF-EFD93DA13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2D82-63E5-4244-A0A8-7871E22B62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15000" fill="hold"/>
                                        <p:tgtEl>
                                          <p:spTgt spid="5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1000"/>
                                        <p:tgtEl>
                                          <p:spTgt spid="55">
                                            <p:txEl>
                                              <p:pRg st="2" end="2"/>
                                            </p:txEl>
                                          </p:spTgt>
                                        </p:tgtEl>
                                      </p:cBhvr>
                                    </p:animEffect>
                                    <p:anim calcmode="lin" valueType="num">
                                      <p:cBhvr additive="repl">
                                        <p:cTn id="85"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