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26A1B-0E37-42C4-BECF-4C8ED3CB7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0C517-25B6-4164-AD6E-16B280164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28DDC-79EA-4ECB-A857-3018F2E6C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512F6-2327-4CC6-8A8F-71A960CF4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20980-9071-49AA-80AA-8466FE4B3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C7E7-5C72-43EB-82BA-C2AEF268D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A4901-0B29-432E-AA8E-E377A25A0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67B98-A423-4A19-8031-D42BF51D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8943B-3D40-434B-9325-DB2BFCCF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8F53-738F-4C5B-BA1A-34929A4B1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33DB-657E-48CB-811C-D2DAFFCF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F5E5-5D35-4D6B-85BC-87345AE7B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798C-EECF-4F0C-85C2-87BA9C329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5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ppt_w*2.5"/>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ppt_h*0.01"/>
                                          </p:val>
                                        </p:tav>
                                        <p:tav tm="100000">
                                          <p:val>
                                            <p:strVal val="#ppt_h"/>
                                          </p:val>
                                        </p:tav>
                                      </p:tavLst>
                                    </p:anim>
                                    <p:anim calcmode="lin" valueType="num">
                                      <p:cBhvr additive="repl">
                                        <p:cTn id="9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ppt_h+1"/>
                                          </p:val>
                                        </p:tav>
                                        <p:tav tm="100000">
                                          <p:val>
                                            <p:strVal val="#ppt_y"/>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