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7851F-684D-4FBD-8412-7DBB5B12C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E7B5-85F2-472A-8BDA-E22C9EB7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940C5-7A7C-4E37-8882-76F6CC72C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BB051-40DD-485A-9A0F-71BC54C0E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9E51-ABA2-4B55-99B2-7BAB1F8B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467AB-1646-4611-994C-D006FE4B4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2866-D9FE-42E1-B574-1A96806D1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5E57-0A52-4CD2-9F7F-1BF23E53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673D-EC7B-4ECC-A210-7EC48937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51D9-EC10-49E4-8145-2C0C8C84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ABBF-B771-467B-9CD6-842A0F94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D3CC-4A9C-4651-8814-A489093C0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341C-B797-4D49-A9DB-BBD6F3E9E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strips(downRigh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2" dur="5000" fill="hold"/>
                                        <p:tgtEl>
                                          <p:spTgt spid="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