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44F47-A5A5-4E2A-AA95-731E1A5E4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116FD-14B4-4124-82B5-397ED2909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5205D-D46C-485D-9C2E-FD395CB2D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D0B33-3AC8-4F07-822F-84E61932A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EF2AA-8865-418F-86AC-E76D7F269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54B17-A192-467E-8ADE-0034CB315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03415-D194-4F62-9619-89FDD6BFF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C6318-D556-4F57-B567-CA44A2818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1414F-A58D-459F-80C1-3C6965DE3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96362-A047-43D7-A343-7A6062A32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D6D7F-5C7C-4FD2-8013-7A95947D5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A18AD-4DA8-4A5E-A5B9-4FB80BAE4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17A5-8A6D-4C84-B0DB-B2E220FD7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plus(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anim calcmode="lin" valueType="num">
                                      <p:cBhvr additive="repl">
                                        <p:cTn id="91" dur="2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92" dur="2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3" dur="2000" fill="hold"/>
                                        <p:tgtEl>
                                          <p:spTgt spid="55">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