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918CB6-C575-46DB-9E2A-5A36500AE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BC83D-9CC4-4D6E-8860-200AE9695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C7C12E-C9CC-4633-9410-DCBEC451E5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37C3A2-9B85-4F94-917E-A79FFBEFEA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7896E-7B37-48A3-875B-C1FD7FEDC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1D9E6-2511-4889-9248-376D1E09F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15BB2-ECFB-4D43-8941-D34AD3A3F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78188-5792-4C41-BCA8-81C680BA6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94EA3-9FDD-42F3-B63D-1FB9089C4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DD0B2-B33F-424A-A72E-866145685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C06DB-4F1F-4487-82BC-5CA402F85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BD474-1066-435D-9492-4E39D936F3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041EA-08B0-4C58-B2D5-66B63BFA57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Effect filter="fade" transition="in">
                                      <p:cBhvr additive="repl">
                                        <p:cTn id="80" dur="5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2000"/>
                                        <p:tgtEl>
                                          <p:spTgt spid="55">
                                            <p:txEl>
                                              <p:pRg st="2" end="2"/>
                                            </p:txEl>
                                          </p:spTgt>
                                        </p:tgtEl>
                                      </p:cBhvr>
                                    </p:animEffect>
                                    <p:anim calcmode="lin" valueType="num">
                                      <p:cBhvr additive="repl">
                                        <p:cTn id="86"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7"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3" dur="500" fill="hold"/>
                                        <p:tgtEl>
                                          <p:spTgt spid="55">
                                            <p:txEl>
                                              <p:pRg st="3" end="3"/>
                                            </p:txEl>
                                          </p:spTgt>
                                        </p:tgtEl>
                                        <p:attrNameLst>
                                          <p:attrName>ppt_h</p:attrName>
                                        </p:attrNameLst>
                                      </p:cBhvr>
                                      <p:tavLst>
                                        <p:tav tm="0">
                                          <p:val>
                                            <p:strVal val="0"/>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