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A9B75-1BE9-4EA7-9FB0-DD7778B0A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8DB4C-0364-4CF2-A295-7B3B2B707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27544-F923-4E18-9798-F542B2BED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28330-7954-45BB-B414-D260F40AF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BE890-FF88-429E-AE4B-8B897BCAB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CAB54-3737-4689-95AE-B857F9EF4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79C16-1ED7-4D2E-BF0F-9E7E3F5C9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7CBBA-9532-4BEA-BD17-BADD32265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1C126-E0A9-490B-BD07-BD539E45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0137-0640-4AEF-9FB9-4F1C25C61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D90E-4730-4F00-8B79-93DCB7581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E241C-0CC0-4B94-B35B-C3B42E8C8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D28E-1A91-450F-B254-C81B8428AA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set>
                                      <p:cBhvr>
                                        <p:cTn id="90" dur="455" fill="hold">
                                          <p:stCondLst>
                                            <p:cond delay="0"/>
                                          </p:stCondLst>
                                        </p:cTn>
                                        <p:tgtEl>
                                          <p:spTgt spid="55">
                                            <p:txEl>
                                              <p:pRg st="3" end="3"/>
                                            </p:txEl>
                                          </p:spTgt>
                                        </p:tgtEl>
                                        <p:attrNameLst>
                                          <p:attrName>r</p:attrName>
                                        </p:attrNameLst>
                                      </p:cBhvr>
                                      <p:to>
                                        <p:strVal val="-45"/>
                                      </p:to>
                                    </p:set>
                                    <p:anim calcmode="lin" valueType="num">
                                      <p:cBhvr additive="repl">
                                        <p:cTn id="91"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2"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3"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4"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