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D01DB-5DF6-4301-86DD-9BD1957F6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AFFB4-78F4-4050-AE23-09A73C103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0EC9B-20AA-43B5-A06F-ACF86F90E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7474A-D464-4C23-8622-B3695D399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2CF5B-66C2-4884-88CE-84E7D2CF7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014AC-ED3B-46A8-8073-5997C483C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E7A7C-EA85-451D-ACBB-B71D0F1F7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2C0AD-5B15-4E8D-B7D6-77BC6CD82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6DF35-6AF8-4241-AC0F-B1C373E14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BB437-76C8-419B-B87B-90E1AB05E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66738-AD50-4BF7-93F9-3063D0393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CA7B3-7E3C-4838-9E90-89B07CE09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4795-F670-4EE5-94D0-B63860BE5A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repl">
                                        <p:cTn id="91" dur="500" fill="hold"/>
                                        <p:tgtEl>
                                          <p:spTgt spid="5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