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2F6E2-27F9-4AE1-B5CF-5F97C6AA3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886FD-9733-4793-A5E6-89CBDB151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14DE4-2FD7-491C-9207-828E20BAC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0ACC9-667E-4E8F-B54E-BB0675468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B257A-B69C-4090-AB1F-BA39554B2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0F277-65D4-4949-8FBE-56CB5256F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864A6-DE66-48CD-9B90-9442BAA8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DC937-5C7F-44ED-BAF1-CA51E4110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0B8ED-21ED-43D1-8295-B4AE8FDFC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DE7C6-D3EF-4174-A776-2FD5D5A4D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EEB29-9F2A-4D61-B26D-F3D9E5671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F781A-D0E2-427C-8C46-AAD032B5C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00BC-3A26-4D16-B88F-611EBA9720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5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5000" fill="hold"/>
                                        <p:tgtEl>
                                          <p:spTgt spid="5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