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F2AF6-5CEE-4517-847C-F7CB20664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F7A6D-A4AD-4DEC-B73B-53220D0CE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5606A-1308-4F2C-9589-0F0EB2DC4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BEE26-4D20-4DE0-8F8B-9350DDA7B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98B9B-5D1C-4F6D-B2DD-E67FA954C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E3EF3-16EA-48D4-8CED-DF0153BFE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2B6B4-D7BD-4D79-BC52-227A73644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6AF8F-4BDA-4C99-BDBE-865D5B6A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8D90E-C9CE-4F2E-83E1-267D4536E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7CA6-4A72-4F09-A05B-74678DDCA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5B9FF-2508-4DD6-B439-FE3405AC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4E16-52AB-4528-A74C-4BE9FD8AD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80F2-B660-452E-B50E-741EB41A69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 calcmode="lin" valueType="num">
                                      <p:cBhvr additive="repl">
                                        <p:cTn id="88"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