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DFF9F-3B27-49F9-A594-56423F3F6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65191-FA8C-4F49-865F-2C7EC2037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07737-DADC-4647-959A-96DC0BAE0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DAE03-0676-447D-8E3F-63A746F99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442AC-DF41-48C4-9474-7C6A4F212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70AA-B8FF-4ACE-8E0C-009805FB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C5736-5308-47A3-9B3E-5CCEC9962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BEE39-75C5-4A00-9CC3-83D239F7D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C983F-18BA-485C-9AA5-0A45BB60B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31989-BDAF-418F-9186-E3900FAE2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DF36-4D68-4E19-9644-2E1B65B26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7527-EF1A-406C-B536-117E8E214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924B-C255-4597-BE57-DB74A807A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linds(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circle(out)"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slide(fromLeft)" transition="in">
                                      <p:cBhvr additive="repl">
                                        <p:cTn id="88" dur="500"/>
                                        <p:tgtEl>
                                          <p:spTgt spid="5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