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573C4-B4BF-45D9-BA0D-743DE453C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7DC0-B88E-4A64-AD8A-031CEDA0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80E86-266C-4F22-BD9E-AAE9B3CF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699BA-4AA6-4178-A8EC-AFF049FEE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1205-B8B7-45B0-82F0-F03D76F54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16948-F26C-4DCE-AB31-D94CDCF9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720D-CAF5-47C5-92B4-187195F0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3DD9-B4D1-4D5C-B3C8-199FF1CD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52A7-8588-4BAF-91A0-7E678CE38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D5C0-48CD-4BB2-B099-CB8CA8B0C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363E-B685-4E48-9634-DE5C5A3E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79994-5291-4616-8B1A-1AD810A78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795A-E1B7-4C77-851D-838AA1310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set>
                                      <p:cBhvr>
                                        <p:cTn id="87" dur="455" fill="hold">
                                          <p:stCondLst>
                                            <p:cond delay="0"/>
                                          </p:stCondLst>
                                        </p:cTn>
                                        <p:tgtEl>
                                          <p:spTgt spid="55">
                                            <p:txEl>
                                              <p:pRg st="2" end="2"/>
                                            </p:txEl>
                                          </p:spTgt>
                                        </p:tgtEl>
                                        <p:attrNameLst>
                                          <p:attrName>r</p:attrName>
                                        </p:attrNameLst>
                                      </p:cBhvr>
                                      <p:to>
                                        <p:strVal val="-45"/>
                                      </p:to>
                                    </p:set>
                                    <p:anim calcmode="lin" valueType="num">
                                      <p:cBhvr additive="repl">
                                        <p:cTn id="88"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9"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90"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1"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7"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8" dur="5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