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EA2A3-0B57-4BF7-9F5D-4EF8DF461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C77F5-F5E2-4D69-90F9-0B740ADBC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F3645-002C-4E98-843C-E562736AB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A1A7E-28C7-4D08-BBEC-EE59264AF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13C2C-986A-4CDB-868B-C01E49F99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66A43-83B9-4258-9AFF-D7993299B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F33A5-15C1-48D8-B9E4-4D7A932D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64AD6-6F38-4882-83B3-44B1E61F9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79322-DB83-4517-A027-840C445A9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C124C-8859-4F9C-9DC4-E472D3FFC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F9DB-FE12-49F0-9C75-BED6DDAD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539EE-D491-4027-84F6-FF773689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CDF9-26F9-43DA-A855-6EA54A027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3"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4" dur="500"/>
                                        <p:tgtEl>
                                          <p:spTgt spid="55">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 calcmode="lin" valueType="num">
                                      <p:cBhvr additive="repl">
                                        <p:cTn id="89"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1"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