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9C513-0B48-4865-A37F-3F8CC14D7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C3981-7C81-4454-B7B2-46BFA5DB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92E20-8927-4424-A077-03184898C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1431A-2ECF-4F27-A77A-79CF1D7BD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7B24E-7966-42D3-8E36-DA4168F95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670BF-310B-4C9D-A76F-D7664C343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76BB1-5C7C-461F-93BC-AF7C0BF23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CA82C-E494-43EA-9E91-D12E2533F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C8580-BE0C-42F8-9F60-97EC67665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EC214-A2CC-4A20-A928-6F046978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D1D4C-B013-4B60-AC5D-ED899680C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D745B-0AC7-4F25-9149-0DD523EAD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1874-B641-4011-8845-F912792CF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anim calcmode="lin" valueType="num">
                                      <p:cBhvr additive="repl">
                                        <p:cTn id="80" dur="500" fill="hold"/>
                                        <p:tgtEl>
                                          <p:spTgt spid="5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 dur="500" fill="hold"/>
                                        <p:tgtEl>
                                          <p:spTgt spid="5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800"/>
                                        <p:tgtEl>
                                          <p:spTgt spid="55">
                                            <p:txEl>
                                              <p:pRg st="2" end="2"/>
                                            </p:txEl>
                                          </p:spTgt>
                                        </p:tgtEl>
                                      </p:cBhvr>
                                    </p:animEffect>
                                    <p:anim calcmode="lin" valueType="num">
                                      <p:cBhvr additive="repl">
                                        <p:cTn id="88"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89"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90"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Effect filter="checkerboard(down)" transition="in">
                                      <p:cBhvr additive="repl">
                                        <p:cTn id="97" dur="500"/>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