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652F4-660A-45B5-8440-D0A96E39C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2CF9E-210B-4F12-BE97-069D08975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11567-95FF-4851-97E3-F74DFF6D2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F255A-D7B7-4801-9E73-012C721ED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E19B4-443E-421A-80D3-32A98A06E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56EA7-6DDB-458B-B275-C10EEA7AE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96D4-4A38-4CFB-B4A7-CCB1E877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698D7-FB07-47DC-B81A-7FC5DA1B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90A8-E899-4612-998C-BB2AEDEAC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B77C-C379-48EA-96CD-664D67D4D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B700-204A-4EE4-9125-4073E01EC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95BE-4B78-44F2-90AB-731429A7A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2E03-C3B9-43FE-B48B-BE2CDFBE5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1000"/>
                                        <p:tgtEl>
                                          <p:spTgt spid="55">
                                            <p:txEl>
                                              <p:pRg st="3" end="3"/>
                                            </p:txEl>
                                          </p:spTgt>
                                        </p:tgtEl>
                                      </p:cBhvr>
                                    </p:animEffect>
                                    <p:anim calcmode="lin" valueType="num">
                                      <p:cBhvr additive="repl">
                                        <p:cTn id="95"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