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16187-B0DE-4A43-83A8-7305A2B1F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43746-EDEB-406E-9F29-41A930A64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967C1-8504-427C-8D35-DDC7C1912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B6BB2-D5BA-49F3-A14B-6E018A45A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6283E-CDC3-4271-897D-2E7337B34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6FC97-66E6-46F7-A965-739DC34D7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20FEC-D943-4E8A-88C2-AC3D3A617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CD61C-3388-438B-A79F-6F8F849F3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37E1A-0CED-4A87-9056-8687E25EB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8C2EB-3331-44F4-843F-0597702DE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1FAFF-3344-48A8-AB69-AF915AEDE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78B2A-9A2F-4238-B428-C66D21129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929F3-5F12-423A-9218-A211B6458C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wheel(8)" transition="in">
                                      <p:cBhvr additive="repl">
                                        <p:cTn id="92" dur="2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