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F7F23-8DE6-48CF-B674-78A3FDF6C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5B30-DCE4-446D-AF90-1DA6ABE4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7AC44-B0DB-49D6-A5FE-25D05A2FB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4FA7D-E6B3-4A26-A44C-CCAD83C58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53E1D-F098-4C3C-BE8A-B5E072D9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D892A-345F-45F4-AAAC-987F3E8A6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EB3E6-B6EE-48F3-A783-573A0CFC4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A518-76FE-43B9-A26D-659CCCF46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2B47F-6688-4596-B701-D6E2B69C9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864D-5ECB-4FF1-926F-B4AC91EE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5122E-A1E7-43E2-8F6F-B81CACB4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22192-3563-40FD-8136-54B2A37ED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53F7-2312-4F7D-BC3A-B49CE1AB2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1000"/>
                                        <p:tgtEl>
                                          <p:spTgt spid="55">
                                            <p:txEl>
                                              <p:pRg st="2" end="2"/>
                                            </p:txEl>
                                          </p:spTgt>
                                        </p:tgtEl>
                                      </p:cBhvr>
                                    </p:animEffect>
                                    <p:anim calcmode="lin" valueType="num">
                                      <p:cBhvr additive="repl">
                                        <p:cTn id="88"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