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45F35-9B93-4F3E-AE60-77BEE44C4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B8A20-AC3D-4A61-9E36-59FC9D9F9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99D04-1180-4A4E-AC65-F80629C20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344B5-DB94-40CD-BF90-B5D00B1B4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85FD4-EB78-4674-9C75-6FAFD34C6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76573-6C90-4570-AFBC-77DCA6012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4AA36-6692-4EF9-83B4-974F1A03A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C8FD2-25EA-4C33-8AD0-0937E25C3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38CE2-2C4F-4C26-B6DC-0B759303A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E8532-A7DC-4E59-8BE7-92D2DB0F1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D602C-0813-478C-A8AD-4ABEBD918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8194D-3C58-4EB0-9085-3C06660A1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155E-C44E-4A33-80EF-5D4850F503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2000"/>
                                        <p:tgtEl>
                                          <p:spTgt spid="55">
                                            <p:txEl>
                                              <p:pRg st="2" end="2"/>
                                            </p:txEl>
                                          </p:spTgt>
                                        </p:tgtEl>
                                      </p:cBhvr>
                                    </p:animEffect>
                                    <p:anim calcmode="lin" valueType="num">
                                      <p:cBhvr additive="repl">
                                        <p:cTn id="86"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7"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ppt_w*0.05"/>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4" dur="5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5" dur="5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6" dur="5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