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FA32C-F8E9-49C1-BB4F-F1325FEA1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12551-6A24-41AF-A32D-505C931B2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DB630-C09B-4080-9FDE-23C2C2C58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38210-701A-4F95-95E8-6341582BE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49E5D-7411-438E-9D89-73661FDDA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D0D88-FAAC-4230-A9AD-77A667836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EA4C9-01FA-4209-B76E-2B85B1927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AA5AB-7F6B-43B8-A632-DA038CD7A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9B524-24C0-4BF1-8AC1-3252F976D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76876-BA22-4BEA-872E-6AF0B0DF4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ABE3C-C67D-475C-99CF-566CE0DBD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A9BE8-3761-453E-9EA3-DB8C98F14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2A38A-1FAB-49DB-8F09-C4868707E7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blinds(horizontal)"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4"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 dur="500" fill="hold"/>
                                        <p:tgtEl>
                                          <p:spTgt spid="55">
                                            <p:txEl>
                                              <p:pRg st="3" end="3"/>
                                            </p:txEl>
                                          </p:spTgt>
                                        </p:tgtEl>
                                        <p:attrNameLst>
                                          <p:attrName>ppt_y</p:attrName>
                                        </p:attrNameLst>
                                      </p:cBhvr>
                                      <p:tavLst>
                                        <p:tav tm="0">
                                          <p:val>
                                            <p:strVal val="#ppt_y"/>
                                          </p:val>
                                        </p:tav>
                                        <p:tav tm="100000">
                                          <p:val>
                                            <p:strVal val="#ppt_y"/>
                                          </p:val>
                                        </p:tav>
                                      </p:tavLst>
                                    </p:anim>
                                    <p:anim calcmode="lin" valueType="num">
                                      <p:cBhvr additive="repl">
                                        <p:cTn id="92" dur="500" fill="hold"/>
                                        <p:tgtEl>
                                          <p:spTgt spid="55">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 dur="500" fill="hold"/>
                                        <p:tgtEl>
                                          <p:spTgt spid="55">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 dur="5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