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F6452-444E-4F24-A39F-115547596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EA54-8E0D-4B31-A2BB-41A4FB0D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0B8A7-D090-48F8-928C-85B780DDD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83D32-6349-4DF7-9C4F-B12FF487E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1ABFE-A2C6-4269-B605-C89DF3530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00672-29A2-4E04-BC07-B537604AB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854E-D78B-4D30-B4E5-EEC032B3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EC56B-87E6-4FAB-AB36-50D764AA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AD4B0-858D-4837-8790-488A4965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9641-9A65-4B71-967C-699EFC60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6776-08F8-4D95-9C12-188156A2C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9F62-4A87-42C1-9170-70E99E109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710B-954B-4F93-91C2-50B5C6AD8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1000"/>
                                        <p:tgtEl>
                                          <p:spTgt spid="55">
                                            <p:txEl>
                                              <p:pRg st="2" end="2"/>
                                            </p:txEl>
                                          </p:spTgt>
                                        </p:tgtEl>
                                      </p:cBhvr>
                                    </p:animEffect>
                                    <p:anim calcmode="lin" valueType="num">
                                      <p:cBhvr additive="repl">
                                        <p:cTn id="85"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