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24FFC-8162-4238-80D3-32AE5F38C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521AE-A1E7-48DC-AC3E-4C6728FE4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2E865-A317-4A25-A099-C44322566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21BC9-C74F-442E-8557-6023F6E47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4D94C-A6E8-4D4A-ADBD-004F119A0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0595C-B891-43C6-984B-F9353024F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89F45-5682-4876-9320-C49346E98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1A2EA-B69A-40B9-B907-75ACEC592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63606-4972-4EA5-9608-94B426F72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AEF81-25BE-471B-9A2C-ED86C74A8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F87DD-941D-4F3B-A345-61BAD0A6A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822E-5248-4321-8525-1B007ECC5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1C98-82A8-4BEE-971E-CE5B943BE7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fade" transition="in">
                                      <p:cBhvr additive="repl">
                                        <p:cTn id="95" dur="1000"/>
                                        <p:tgtEl>
                                          <p:spTgt spid="55">
                                            <p:txEl>
                                              <p:pRg st="3" end="3"/>
                                            </p:txEl>
                                          </p:spTgt>
                                        </p:tgtEl>
                                      </p:cBhvr>
                                    </p:animEffect>
                                    <p:anim calcmode="lin" valueType="num">
                                      <p:cBhvr additive="repl">
                                        <p:cTn id="96"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