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0C699-00D5-4E7C-B434-288998BF4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06269-4CB1-499B-A9BA-DC77D8871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06A4F-DA2A-492C-94DE-87A9080F7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8079B-FC2C-4FBA-9DCA-F5D8FDD40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E2B7B-B85E-40DB-9235-3FA5ADCEE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381EC-C247-4E71-8FC7-8C3D81892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F4CDE-801C-46F1-9DFC-1ED1AC900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0DE92-10C7-4344-90D8-F483D5072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851DB-6F9C-45E5-A8D6-9ED4D6E6A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1FAC6-CE62-4B87-9D9D-59E82979E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23187-48D5-43EF-9B66-80A064B98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622D0-1D51-45A9-AAD4-BE035F5EC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74A9-B334-4583-B899-C5227C17F2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0.05"/>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discrete" valueType="clr">
                                      <p:cBhvr additive="repl">
                                        <p:cTn id="87" dur="80"/>
                                        <p:tgtEl>
                                          <p:spTgt spid="5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8" dur="80"/>
                                        <p:tgtEl>
                                          <p:spTgt spid="55">
                                            <p:txEl>
                                              <p:pRg st="2" end="2"/>
                                            </p:txEl>
                                          </p:spTgt>
                                        </p:tgtEl>
                                        <p:attrNameLst>
                                          <p:attrName>fillcolor</p:attrName>
                                        </p:attrNameLst>
                                      </p:cBhvr>
                                      <p:tavLst>
                                        <p:tav tm="0">
                                          <p:val>
                                            <p:strVal val="rgb(-103,51,51)"/>
                                          </p:val>
                                        </p:tav>
                                        <p:tav tm="50000">
                                          <p:val>
                                            <p:strVal val="rgb(-103,-103,0)"/>
                                          </p:val>
                                        </p:tav>
                                      </p:tavLst>
                                    </p:anim>
                                    <p:set>
                                      <p:cBhvr>
                                        <p:cTn id="89" dur="80"/>
                                        <p:tgtEl>
                                          <p:spTgt spid="55">
                                            <p:txEl>
                                              <p:pRg st="2" end="2"/>
                                            </p:txEl>
                                          </p:spTgt>
                                        </p:tgtEl>
                                        <p:attrNameLst>
                                          <p:attrName>fill.type</p:attrName>
                                        </p:attrNameLst>
                                      </p:cBhvr>
                                      <p:to>
                                        <p:strVal val="solid"/>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6" dur="10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