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39A2C-2371-4143-B0F0-74A97BF51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CA2BE-558E-448B-8E16-41F2B1C87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09026-25E3-4DA6-A68F-8EEB8E996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C4802-BD05-4D4B-ACB7-0CEBC273C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824D4-F013-427F-A98A-17D3F3B0A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A4841-FB2E-4229-8FD2-FB8FFD73D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14D55-DBB2-47E2-8993-C4F6D1EEB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AE66C-C3CE-40A0-9FF0-F8846F3B7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85785-7F3C-430B-843B-0CB56B28E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37538-ECF2-4712-ABD6-1821700D2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A0168-6F1E-49F4-8475-DCBB1738B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0986F-8675-4941-A22E-0AAD6FC44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C29C-C2AC-4167-AF05-7F06525FC2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anim calcmode="lin" valueType="num">
                                      <p:cBhvr additive="repl">
                                        <p:cTn id="87"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diamond(out)"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