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AB000-3B60-4CC8-BB9A-3B361E8BF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EBDFE-668E-4F84-BC67-3612AF701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FB5DC-FE44-4E0F-BF2E-8B64796B5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524EC-8452-4A8F-944F-18B1D2A60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D2506-20D0-49D9-9875-0E94D8BF8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3ABB7-1333-4389-BAB5-AD69C973C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1B5D0-A230-47B5-A9CB-1B55E2843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9257B-8FAE-41F1-8F65-6FD63E985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E0F0F-4A92-4A3B-B9E0-065AAD785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C3A80-3F22-43DE-B70A-3D8A6205B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54868-B63D-4A36-9850-942A2E0E2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8D510-AF87-4FAD-84F9-C8F211230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6FA2-D52C-4F60-A3FB-4A8202F0A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1000"/>
                                        <p:tgtEl>
                                          <p:spTgt spid="55">
                                            <p:txEl>
                                              <p:pRg st="3" end="3"/>
                                            </p:txEl>
                                          </p:spTgt>
                                        </p:tgtEl>
                                      </p:cBhvr>
                                    </p:animEffect>
                                    <p:anim calcmode="lin" valueType="num">
                                      <p:cBhvr additive="repl">
                                        <p:cTn id="92"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3"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