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66715-7944-44C9-82FB-C17D79400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38EA-C1EE-4750-80AB-D3997D37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3C823-3952-409E-B796-DFF0B31BF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F4E55-2DBD-4143-B41F-65B43256D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C6816-B096-4B9F-A508-2BE57EDB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EBBF-D2FD-4A83-AE5A-7E279B94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369B2-7C34-426F-9455-82A9E8AEB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5AA2-9753-45AE-903B-00DEE02D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B965D-1E9E-4031-87E0-DB703F457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6F0E-D90F-4DB9-9732-1BCC1448A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44478-F30B-43BD-9C2D-2FAC9F344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78C9-D9EF-449C-BDA5-63BB6C0F3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8366-7F51-44B6-BCDC-66019E220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9" dur="5000" fill="hold"/>
                                        <p:tgtEl>
                                          <p:spTgt spid="55">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