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518BB-2442-437E-BC12-C864B5368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6A1DE-4BD6-474A-BD6A-B2D568C2E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FFD40-9072-40A4-B91D-239F90E3E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536CE-16A8-43E3-B32A-BB06BF633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16000-D01F-4151-A193-47115270F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4DB24-1CB5-4E69-BCD8-08CADC2A3D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5013D-C3FC-4EE8-9757-1C3C1FAA0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25E68-D272-49A7-A964-4DB4D54CF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58730-2858-450E-9788-60F347F19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BAFBF-8160-4CB8-BFE4-109AA273C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03270-A44D-4B7F-9676-743B7AAE1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2ECCF-62D4-4089-989B-52B64DD0C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9D624-6C40-47A3-B43E-45E2F0DDB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Scale>
                                      <p:cBhvr>
                                        <p:cTn id="78" dur="1000" fill="hold">
                                          <p:stCondLst>
                                            <p:cond delay="0"/>
                                          </p:stCondLst>
                                        </p:cTn>
                                        <p:tgtEl>
                                          <p:spTgt spid="5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 dur="1000" fill="hold">
                                          <p:stCondLst>
                                            <p:cond delay="0"/>
                                          </p:stCondLst>
                                        </p:cTn>
                                        <p:tgtEl>
                                          <p:spTgt spid="55">
                                            <p:txEl>
                                              <p:pRg st="1" end="1"/>
                                            </p:txEl>
                                          </p:spTgt>
                                        </p:tgtEl>
                                      </p:cBhvr>
                                    </p:animMotion>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6"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4" dur="10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