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6D752-9D25-437D-BDEB-293153733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813B7-2177-446C-9B4F-2A140D2A8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6840D-8934-4277-A61C-B6103B3C2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1CBC3-2ACB-446F-92CF-C2FB0FDBB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7087B-D452-4552-970C-142264CA4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8C14E-C355-4FE8-AFB4-7F8CA45A7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9C19F-BB1D-4E9E-8889-406568988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353A5-2738-4B4F-A526-6A7A1A980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9E243-792B-407F-A5D3-F6948F7DE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4C7C4-8BFA-4FB2-B016-1CF672F4D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2ECC4-67B4-4BAA-92CA-CFB464FA8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1501C-7A4F-4AC6-963C-EE2572A97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CADA-7E72-449E-98C6-8F640B315D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1" dur="5000" fill="hold"/>
                                        <p:tgtEl>
                                          <p:spTgt spid="5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