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BBC10-56A6-417C-B2AF-B8553D2FD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1D879-3367-4F52-9FDF-93C7F491B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FA50A-6EB6-4CB9-B08F-4280D072C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91852-4A4F-477B-8C4C-8E013D0C4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FD5CB-0390-4672-A6AC-F92B155C8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800E3-FF0B-4F57-9EC6-219CCF231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78431-48F5-430F-A3A9-4A8CA3AD9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A208D-AC63-480C-85BE-D7437C1D6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1DAF0-09B3-488A-9A69-78FD62771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3999E-B266-4690-98F7-9858DB92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ECBDE-5F9D-4003-BA15-0030D1A9A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97591-4FEF-4A12-94D5-61B3F4273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E441-446A-4629-9EC7-FAB25D45DA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discrete" valueType="clr">
                                      <p:cBhvr additive="repl">
                                        <p:cTn id="78"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55">
                                            <p:txEl>
                                              <p:pRg st="1" end="1"/>
                                            </p:txEl>
                                          </p:spTgt>
                                        </p:tgtEl>
                                        <p:attrNameLst>
                                          <p:attrName>fillcolor</p:attrName>
                                        </p:attrNameLst>
                                      </p:cBhvr>
                                      <p:tavLst>
                                        <p:tav tm="0">
                                          <p:val>
                                            <p:strVal val="rgb(-103,51,51)"/>
                                          </p:val>
                                        </p:tav>
                                        <p:tav tm="50000">
                                          <p:val>
                                            <p:strVal val="rgb(-103,-103,0)"/>
                                          </p:val>
                                        </p:tav>
                                      </p:tavLst>
                                    </p:anim>
                                    <p:set>
                                      <p:cBhvr>
                                        <p:cTn id="80" dur="80"/>
                                        <p:tgtEl>
                                          <p:spTgt spid="55">
                                            <p:txEl>
                                              <p:pRg st="1" end="1"/>
                                            </p:txEl>
                                          </p:spTgt>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Scale>
                                      <p:cBhvr>
                                        <p:cTn id="85"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55">
                                            <p:txEl>
                                              <p:pRg st="2" end="2"/>
                                            </p:txEl>
                                          </p:spTgt>
                                        </p:tgtEl>
                                      </p:cBhvr>
                                    </p:animMotion>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