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DA08F-8CC0-48D7-904F-8B276C5B4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7812C-B353-4983-9318-7056BD296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9986F-9611-4F5F-B35C-A99FC2B4D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411F1-1D73-452D-AD1E-C59366F6E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0176C-8D4C-4043-A66A-1545D6A6D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19B76-1B93-4468-9B9F-737C40BF8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B4DDF-479D-492E-B788-62F70F94A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4FBFB-2084-4EE5-BDD8-25092A0CF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70B26-5C14-402F-B4B3-5323F7D3B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7F88D-9EB7-4232-8FAB-705BBE2C2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ACC12-46D7-4013-BC70-3562E9C3D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D978A-CBE9-4695-BD72-54490F586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E21C-421E-46D8-8C94-15250F6AC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86"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87"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9"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90"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91"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92" dur="1000">
                                          <p:stCondLst>
                                            <p:cond delay="0"/>
                                          </p:stCondLst>
                                        </p:cTn>
                                        <p:tgtEl>
                                          <p:spTgt spid="55">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5">
                                            <p:txEl>
                                              <p:pRg st="3" end="3"/>
                                            </p:txEl>
                                          </p:spTgt>
                                        </p:tgtEl>
                                        <p:attrNameLst>
                                          <p:attrName>style.visibility</p:attrName>
                                        </p:attrNameLst>
                                      </p:cBhvr>
                                      <p:to>
                                        <p:strVal val="visible"/>
                                      </p:to>
                                    </p:set>
                                    <p:anim calcmode="lin" valueType="num">
                                      <p:cBhvr additive="repl">
                                        <p:cTn id="97"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8"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9" dur="1000"/>
                                        <p:tgtEl>
                                          <p:spTgt spid="5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