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8D2F3-DF46-4BFB-88B3-E3639A973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0A614-6E15-42F7-B8E1-1E6D41B80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87253-0C5E-4FF5-A17C-58EB9868A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CBC3B-03C9-499E-ABC3-306F78709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0F664-BB43-42AE-854D-86C822B65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FE39F-9F67-418F-8434-6814A9AB5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A82F4-0607-4E21-9F03-499F9DC3A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6ECF2-4D8B-45E2-BE41-D23F935A7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D506E-F7F0-491A-A536-7B1132232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BB7DF-7B54-470F-9385-53C73A598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F70E3-0B47-477B-AAC9-5F6389985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9A012-A7E0-47E7-A5CE-60D1D5CF2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462B-0011-4634-B4CD-CC2B9431E6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linds(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fade" transition="in">
                                      <p:cBhvr additive="repl">
                                        <p:cTn id="88" dur="800"/>
                                        <p:tgtEl>
                                          <p:spTgt spid="55">
                                            <p:txEl>
                                              <p:pRg st="3" end="3"/>
                                            </p:txEl>
                                          </p:spTgt>
                                        </p:tgtEl>
                                      </p:cBhvr>
                                    </p:animEffect>
                                    <p:anim calcmode="lin" valueType="num">
                                      <p:cBhvr additive="repl">
                                        <p:cTn id="89"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0"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1"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