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B4D66-5927-4ADB-B12C-BEF2D96C7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72EFC-A9D1-430F-8D8C-85E63A767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60868-96D1-4550-BC56-8985B65F4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22411-D789-4AAA-BB62-03D96199E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BF13D-747F-4EE7-9522-3AC1647DB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775B5-D13C-4541-897B-C01E0B87C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FCDE3-EAE0-4BFE-AACB-415151B0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44127-772A-44DA-B11D-27095CB1D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2A075-BB93-4202-9603-92A04A5DA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F2A3-4EB7-424D-A32B-8C7C4D285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1CFDA-4C4F-4879-961A-90509AFC2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CE13-C44B-440F-A77A-F19A9F2C9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A58E-03D0-438B-B6D7-7BB412526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8" dur="1000" fill="hold"/>
                                        <p:tgtEl>
                                          <p:spTgt spid="5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repl">
                                        <p:cTn id="94" dur="500" fill="hold"/>
                                        <p:tgtEl>
                                          <p:spTgt spid="5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