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E3F078-4764-4124-A623-9A6F0CEA0F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E458E-BC79-4E91-A164-6F08EEE72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5A36EF-31B5-4838-A3E6-FCB259E06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569231-0039-4DE8-B146-F64A473D3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F6AA7-6804-485C-9AE9-35023619D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E097D-E950-4576-B9C6-62E863693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9310F-5A47-41B2-8FFC-F9B8174AA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D2728-0ECF-4792-A78D-7C3FAF011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634AE-9DF6-4ECF-943A-7785E6B43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F7346-F2F0-4AD3-A306-678E004AD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3AD14-63FF-4656-9E68-D1AF74D63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DD712-DED2-4C73-B980-585F1CB5B3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A9158-1E95-426A-9FC6-41BD338D63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0" dur="1000" fill="hold"/>
                                        <p:tgtEl>
                                          <p:spTgt spid="55">
                                            <p:txEl>
                                              <p:pRg st="1" end="1"/>
                                            </p:txEl>
                                          </p:spTgt>
                                        </p:tgtEl>
                                        <p:attrNameLst>
                                          <p:attrName>r</p:attrName>
                                        </p:attrNameLst>
                                      </p:cBhvr>
                                      <p:tavLst>
                                        <p:tav tm="0">
                                          <p:val>
                                            <p:strVal val="90"/>
                                          </p:val>
                                        </p:tav>
                                        <p:tav tm="100000">
                                          <p:val>
                                            <p:strVal val="0"/>
                                          </p:val>
                                        </p:tav>
                                      </p:tavLst>
                                    </p:anim>
                                    <p:animEffect filter="fade" transition="in">
                                      <p:cBhvr additive="repl">
                                        <p:cTn id="81" dur="1000"/>
                                        <p:tgtEl>
                                          <p:spTgt spid="5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7"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8" dur="5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p:cBhvr additive="repl">
                                        <p:cTn id="93"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4"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5" dur="500"/>
                                        <p:tgtEl>
                                          <p:spTgt spid="5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