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120AE-C412-4CC1-8355-43B93BDAD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2224E-DB0C-44F6-B87D-3B5242356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3906C-38EB-42E2-88C2-8E6FB51A2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C0D1D-C3EB-4441-A992-C0145D974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9A8D-4E28-4181-A375-AE490BCF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49D90-FB62-4DA8-8A0D-5FA2587AD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4CFCB-484C-424C-BBBB-74983CDD2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7EC61-D4D8-43D3-BA75-99A5756A0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DEA57-F8D5-4E09-894A-0B56E4BF4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45E45-5BF2-4D43-A827-5B271CDE2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1EDD-BE6E-46C0-81C6-13A6615D2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E487-1B9F-4428-B3AA-756A7A47B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45F0-4DD2-4D5E-B971-7ACA10DFE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1000"/>
                                        <p:tgtEl>
                                          <p:spTgt spid="55">
                                            <p:txEl>
                                              <p:pRg st="3" end="3"/>
                                            </p:txEl>
                                          </p:spTgt>
                                        </p:tgtEl>
                                      </p:cBhvr>
                                    </p:animEffect>
                                    <p:anim calcmode="lin" valueType="num">
                                      <p:cBhvr additive="repl">
                                        <p:cTn id="94"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