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4AA50A-1F09-472D-8534-1C94D74FE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6D40D-FBA9-41A2-9252-66496DCFE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2BA7CA-A920-4966-96EF-4959632AB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5BF735-9629-4996-97F9-71FB63462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AEACD-6E1F-45F5-B9EA-F47EAE4C6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10589-80A8-4655-A904-AB07CC405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A6185-4F72-4783-B544-2C4AE66C7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95AE2-66F2-43B2-8502-9D3000629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247E7-7697-4C06-8B96-06281104B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5D9A1-937C-489D-9DB3-606325E46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A7F41-73F7-49DF-B78C-1F00696E6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8311A-070B-4473-B9BA-3007A53D62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B3E78-2B59-431B-8A8D-3C9DFEBEC8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edg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1000"/>
                                        <p:tgtEl>
                                          <p:spTgt spid="55">
                                            <p:txEl>
                                              <p:pRg st="2" end="2"/>
                                            </p:txEl>
                                          </p:spTgt>
                                        </p:tgtEl>
                                      </p:cBhvr>
                                    </p:animEffect>
                                    <p:anim calcmode="lin" valueType="num">
                                      <p:cBhvr additive="repl">
                                        <p:cTn id="84"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1"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2" dur="5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