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0DB95-14E8-4EF5-9B04-9A30C31EE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882ED-D904-47DE-B1D4-1BC12FAA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E420D-6689-4927-828E-A6AB7D4C2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70518-F4C3-4F1F-B109-274DF2C27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B2F2E-DBA7-4B48-892A-61DB6E854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69365-1C4C-484A-8C02-9B907D8B1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8E6D6-0A58-441B-A2CD-43DB6176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3B97-E0E5-477E-86E5-FAF4916F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29986-8A47-4527-BC93-E0EF8DCEA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EACD-CC38-4876-A990-F3341DD6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484D-ACFA-4B4F-BB78-9F6F5C9E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15F5-DC76-460E-B4C7-70ADEB1B0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74C8-7D22-48EB-9DEC-43E3F4BE0B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ppt_h/2"/>
                                          </p:val>
                                        </p:tav>
                                        <p:tav tm="100000">
                                          <p:val>
                                            <p:strVal val="#ppt_y"/>
                                          </p:val>
                                        </p:tav>
                                      </p:tavLst>
                                    </p:anim>
                                    <p:anim calcmode="lin" valueType="num">
                                      <p:cBhvr additive="repl">
                                        <p:cTn id="94" dur="5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